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2EF6-ABCB-4B00-9611-2846B0D10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8438-8C7C-4D70-82F3-3F8D9A7CC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66C9-B6E6-41CA-B68E-3B3C7767D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0963-8C07-4830-BA88-1A34B81A9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058E-34F4-4580-A864-54C2F7DFC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0EDF-4486-4ACC-86B8-9CB923025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7DFB-89CE-4A8C-ACEB-277C6B48C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A126-0F07-47C8-8AEA-2E28CB0A7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0BA6-D3A2-48AA-ACC6-308D087ED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21C7-904F-4B68-A5EC-ECCC098D0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3349-8B0C-42DA-8165-1B820673B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061A-B96C-456B-8306-C9C037492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F5DBA-3FDC-452E-AEA9-E029DAAD29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int Like an Impressioni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04920" y="1471680"/>
            <a:ext cx="3143160" cy="22334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5791320" y="1981080"/>
            <a:ext cx="2508120" cy="29718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2743200" y="4378320"/>
            <a:ext cx="2743200" cy="20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541440"/>
            <a:ext cx="9144000" cy="57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541440"/>
            <a:ext cx="9144000" cy="57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542880"/>
            <a:ext cx="9144000" cy="57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542880"/>
            <a:ext cx="9144000" cy="57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2T18:30:29Z</dcterms:created>
  <dc:creator>Patrick J. Mooney</dc:creator>
  <dc:description/>
  <dc:language>en-US</dc:language>
  <cp:lastModifiedBy>Patrick J. Mooney</cp:lastModifiedBy>
  <dcterms:modified xsi:type="dcterms:W3CDTF">2011-02-12T20:01:00Z</dcterms:modified>
  <cp:revision>2</cp:revision>
  <dc:subject/>
  <dc:title>Slide 1</dc:title>
</cp:coreProperties>
</file>